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B426-C649-4060-9D83-B7ED0070A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0D4-F1EA-4134-86D6-06E7AA89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CB6-38CC-4D7B-B94D-139121C4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0E62D-2B31-423E-BAC7-9C03B43B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2A46C-FF3D-4133-BE78-CEE40263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59E5A-030E-4D54-B5F5-2B5D2C35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53702-F4AC-4BE0-86C7-51254392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66108-B2CB-44D8-8BE3-972DFABA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B54FF-3EEE-4279-9C8B-A7031AC5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E4598-EA27-48EC-947B-9EAA7A7E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0F47C-8048-43F1-B2F5-1AD11049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0816A-D515-4F5D-8E68-19CCDE8D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A3D7D-F9E9-458C-A1C9-1C416712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6ED-B91F-4977-A764-C8B54039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6A9BD-7783-41BD-A0DE-F04E087E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CD246-8A60-4B94-9864-D74FB47A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CD076-F729-48CA-A966-E4E0A4C5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82D9B-8054-422E-8A3B-08774F75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78CCE-CE7A-4840-AE23-BD887F0D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F04F9-E0B3-4323-B08D-B2F672A3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F7BC5-78D2-4E19-87EE-818D702A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D3E6D-04AC-4D36-AFBF-A47B9298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ECAE2-909B-488B-B9FD-E20DD71E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948CB-2098-4A74-85F7-9A301D5E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A4E-6652-40B0-A350-C7DA0475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D1A3A-B06F-49DA-965C-A77A2287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51C5C-B92C-4899-A11B-5C5AD1B0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00767-9D84-46C2-B85F-1F139AEB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36634-AF4D-405F-A4F8-58C63A38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324F0-B2D4-46A6-B6D3-5F33D5C7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EE51B-D1E5-48E2-879C-A7C073A0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CC5FD-BC26-4124-9131-C3B1BEFB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09579-81A3-4AB4-9733-FBD34ADB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F1F71-74E2-428E-B31E-DC1613C4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11124-9241-4044-B92D-EBD773D8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8EF6-C2C0-4FAE-AF87-B60CD0D4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EC3C2-D6FF-4E4F-A365-3E0EBA45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47B37-8C5E-4AB2-9E9B-6779FD35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24EDF-FFED-4761-BC5E-1EEFC712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2E86B-7D9D-4691-A63E-376FE478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1CC64-A2F5-491F-8446-1FC482FE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85D2D-2990-4114-A88A-DA164A7C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FA447-23C8-4A34-A39B-3F3398BB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F39E1-3205-44BA-A8CA-629C7729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793A5-B32F-4235-88E9-0A08FD07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171A8-816A-4A91-9721-056279AA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1A31-E099-4865-89C3-CF75AEC8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CACF7-4D09-40C8-9E61-55DF12DF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B763B-03C1-40AA-92EF-8472893B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DF204-A9D2-4F97-84DC-A4EC4DA5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EE763-C594-49FE-AC1A-6E1D84A3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1BCEE-5EE2-492E-98A0-5106121D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AB06-C291-4AE3-B707-408611E6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B7F9-113F-40A1-95EF-D0331AA3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35A1-8E41-4646-99D7-C53C68AB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B026-97CB-4FEF-BBBC-B5EF3138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3D16-C989-4C3E-ACC4-9FD30E96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135-8CC8-46EF-BDE4-5F3E92AD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AE09-0E1E-43D5-8719-6072A4BC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155C-E2BF-4D1E-BC58-E3A1EF5C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1D70-CE3B-4A83-AD24-87FBCDA0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B2E6-666E-425B-9346-90DEF5A4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B581-8FCA-465A-8D24-FFE7B8EB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E96B4-CA50-4055-B76A-7407873E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3B92E-B132-47FF-811C-DD5FF296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5BEB7-D7AD-4D84-A974-553D3FF5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BDC6-ED65-4372-98FB-CF573C5E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99ADC-A1D9-4345-9FE6-966A23D2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CB8-2FC7-42AE-95A3-C1C31A6A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461AC-5ED6-4D5E-B1CC-38239FFC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951BB-D48D-4C79-9DC2-661005E9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7DC27-076F-497F-A0BD-5EBF4DAC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F14AE-CC94-484C-A454-E3C13740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93142-8783-4D0F-9005-88546A77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6138C-EE33-4CB9-96BA-4E87815F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600F-C003-4616-8FDD-45D2FF00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8D4D7-7FB3-4F22-BE59-0F252E51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E66B9-A94A-4417-AE02-48EA0C47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15B5-61E6-475A-A91B-761CAF39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240-5F3B-4357-9908-81CB0845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A39DF-886F-48E0-84AF-774F982A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EC70F-AD8A-4D64-9353-1880A574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4CEE-AB7B-46B3-B29A-5EFBEC0B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9EFC5-5DD2-4E61-9E85-EABBB576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347C9-08C7-4D91-B43E-56D6C9F7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BD1A1-8D5E-4A17-A42A-234CA795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B266A-1EAC-47B4-915D-B109A630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A9191-5FC8-4343-BDB0-790E82FC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85FF0-E43B-4C61-863D-346010B6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69342-681F-4B62-A4E8-B6AC1102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965-8A2F-4C33-80CD-5382819A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2843A-2EAF-48D9-A9C2-FBEF11E3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6A495-491F-43B4-923A-EBBE5105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182CB-36AB-439B-B6DB-8CB801CE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71275-150A-4B41-BDEF-5E806515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825A7-D2D8-448A-B5BB-C2059D75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38DFD-0948-42D1-9355-AF0C1491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DB400-7D42-4C35-B124-F892D19A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5C6E5-D969-4E47-83F1-718E0B27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DF043-4925-46DA-B7CE-FA71F291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26C8E-2E2F-4B6A-A89C-0FE8E1C8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523-4CB6-4354-A42A-0425C8BF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A8268-EE6D-4913-B874-4075B1AD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BBEDC-D45A-44EB-B857-0309CE64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A18C1-E487-4D5E-8D06-2DF42C48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4ABCB-E1D2-4551-B7C3-5DE96CD5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94ACF-220C-4B10-BE8E-6D824109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F2AFF-1FE5-44E4-8F77-DC74F691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13E6B-8C21-41F1-9B03-6894AAC0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8679E-19F6-44AD-B885-112A8E67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D15E5-759C-4740-8381-15B4DC86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B47A3-7D50-4350-A34B-10A9D73A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8C0-6D54-43DA-BB58-F740D2C3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CA468-A6EE-4F6A-A56F-E5EB81F2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FE7D9-1099-450D-99A9-34952ABD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9DE0C-6110-4EAF-8539-DBA874EF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FA10D-4B4A-40F1-AE06-A59594D2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334FF-67D4-4570-8375-FB1004AF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3E2D9-11CD-4FA7-9A55-CD8A233A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0821D-C085-4190-88A4-513BF8BF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BB046-DC87-4694-AFFA-2E70C973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46E85-0607-4255-890B-425FBDB3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CE414-DFEC-48E5-B0A7-8C951232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78C-A505-41F9-B649-70C39C9F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BFF40-A576-4808-863F-C13B90CF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F508B-031C-498D-8424-D290C731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5EFF6-6E56-494E-8090-6B4C53BB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24ACC-A397-4BA6-90FB-94AB4F87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BDF2B-B15B-4D83-A737-D2775FE9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10464-75CA-409C-B12C-E6FD7859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18B55-594C-4252-AC28-082E1C3C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B8A87-B32C-455F-824D-AA6FEDCF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16BCB-B605-4EC2-B0A1-64E52387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A9D57-9063-4F99-BE04-111E9E63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A48-403B-48B3-9FC3-CE01E5CE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06A97-3870-48F8-8614-6060B711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AEBCE-DF59-4474-A2A8-147A5AC1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793E3-640F-4627-82A2-54249503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E20EA-987E-401E-88B4-20AE6D7F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3EEC4-D32E-4103-97A2-5A872AF1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7B6F9-C4D9-4298-A5C2-7E351447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36E03-279B-4A2A-B36F-83A67661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03304-36EC-498C-BBCC-5C8CFAFE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6143E-6FE9-4275-9D33-A7313230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15309-BED9-4017-8993-BCF25878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6483-7F0B-44E0-A319-FF445081EC9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E375-E4C6-4596-9D78-EE93BA749D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A8B8-4AEC-4C47-97F5-AD235F12FA3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7DD3-2835-4644-8A24-4C2846F269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F82A-A078-44F9-9534-0E72C216AF0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6097-B445-414D-A586-3634080CCA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7804-1D4C-4CD6-BA74-EA22F555CC5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08DC-F56F-4D0B-AC59-B4FDA981D2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562C-C115-4E55-8EE5-36D1242A994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EC71-DEF5-482A-B684-74075A3FE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2250-A9EC-4288-B73C-3B964C5D7A4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EC8A-5921-4DDD-8B63-08CB0E3C15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12A1-85AD-43E8-8220-29D88DAE776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CC45-2349-449B-9C1D-BAE54789C0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86BD-0947-4C8A-B67C-440794C2A3A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B736-84F2-46E9-AE6F-FCCFD4518F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E9D9-97D9-42AC-A050-D2F3163A1EB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8F8F-FE66-4A30-886B-810502BC37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2E9D-227F-493C-96DE-11C4BBF7ED8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D4F5-4FE6-4F70-9D3D-1C666FB3EA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EE3F-328A-4024-8721-4FF4A73AD9F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DC9C-EDA8-4AA7-922B-12DE5EF10D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9A5C-8422-4D0E-B101-33747AE0C0E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882C-6DFA-48FB-BC35-4D86606FFE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1905120" y="2133720"/>
            <a:ext cx="3657600" cy="1600200"/>
          </a:xfrm>
          <a:prstGeom prst="rtTriangle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295280" y="43434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762120" y="2438280"/>
            <a:ext cx="5790960" cy="15242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838080" y="44956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33520" y="5562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1828800" y="2133720"/>
            <a:ext cx="2057400" cy="2438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09480" y="5029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685800" y="44956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1523880" y="2438280"/>
            <a:ext cx="3429000" cy="1600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1371600" y="4419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wo Ways to Classify Triangl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 Their Si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449604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calen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85196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8"/>
          <p:cNvSpPr/>
          <p:nvPr/>
        </p:nvSpPr>
        <p:spPr>
          <a:xfrm>
            <a:off x="1371600" y="3200400"/>
            <a:ext cx="4572000" cy="1371600"/>
          </a:xfrm>
          <a:custGeom>
            <a:avLst/>
            <a:gdLst/>
            <a:ahLst/>
            <a:rect l="l" t="t" r="r" b="b"/>
            <a:pathLst>
              <a:path w="2880" h="864">
                <a:moveTo>
                  <a:pt x="1968" y="0"/>
                </a:moveTo>
                <a:lnTo>
                  <a:pt x="0" y="864"/>
                </a:lnTo>
                <a:lnTo>
                  <a:pt x="2880" y="624"/>
                </a:lnTo>
                <a:lnTo>
                  <a:pt x="196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osceles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3124080" y="30481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528" y="0"/>
                </a:moveTo>
                <a:lnTo>
                  <a:pt x="0" y="1632"/>
                </a:lnTo>
                <a:lnTo>
                  <a:pt x="1008" y="1632"/>
                </a:lnTo>
                <a:lnTo>
                  <a:pt x="52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By Their 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5791320" cy="32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ut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riangles hav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cute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7"/>
          <p:cNvSpPr/>
          <p:nvPr/>
        </p:nvSpPr>
        <p:spPr>
          <a:xfrm>
            <a:off x="2743200" y="3124080"/>
            <a:ext cx="2743200" cy="2362320"/>
          </a:xfrm>
          <a:custGeom>
            <a:avLst/>
            <a:gdLst/>
            <a:ahLst/>
            <a:rect l="l" t="t" r="r" b="b"/>
            <a:pathLst>
              <a:path w="1728" h="1488">
                <a:moveTo>
                  <a:pt x="720" y="0"/>
                </a:moveTo>
                <a:lnTo>
                  <a:pt x="0" y="1488"/>
                </a:lnTo>
                <a:lnTo>
                  <a:pt x="1728" y="1248"/>
                </a:lnTo>
                <a:lnTo>
                  <a:pt x="72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ght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Freeform 6"/>
          <p:cNvSpPr/>
          <p:nvPr/>
        </p:nvSpPr>
        <p:spPr>
          <a:xfrm>
            <a:off x="2514600" y="3276720"/>
            <a:ext cx="3124080" cy="1981080"/>
          </a:xfrm>
          <a:custGeom>
            <a:avLst/>
            <a:gdLst/>
            <a:ahLst/>
            <a:rect l="l" t="t" r="r" b="b"/>
            <a:pathLst>
              <a:path w="1968" h="1248">
                <a:moveTo>
                  <a:pt x="0" y="0"/>
                </a:moveTo>
                <a:lnTo>
                  <a:pt x="0" y="1248"/>
                </a:lnTo>
                <a:lnTo>
                  <a:pt x="1968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btus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8"/>
          <p:cNvSpPr/>
          <p:nvPr/>
        </p:nvSpPr>
        <p:spPr>
          <a:xfrm>
            <a:off x="1523880" y="3276720"/>
            <a:ext cx="4876920" cy="1371600"/>
          </a:xfrm>
          <a:custGeom>
            <a:avLst/>
            <a:gdLst/>
            <a:ahLst/>
            <a:rect l="l" t="t" r="r" b="b"/>
            <a:pathLst>
              <a:path w="3072" h="864">
                <a:moveTo>
                  <a:pt x="1824" y="0"/>
                </a:moveTo>
                <a:lnTo>
                  <a:pt x="0" y="864"/>
                </a:lnTo>
                <a:lnTo>
                  <a:pt x="3072" y="864"/>
                </a:lnTo>
                <a:lnTo>
                  <a:pt x="1824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9:23:19Z</dcterms:modified>
  <cp:revision>40</cp:revision>
  <dc:subject/>
  <dc:title>PowerPoint Presentation</dc:title>
</cp:coreProperties>
</file>